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DCA-6D14-4398-867A-41288A37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826-6401-44B8-A5FE-1AAE6E4E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CD1-F5AC-4746-B2E1-8C093B2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97B1-9064-4946-BED2-8EB57A76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0619-BE45-4A3E-A91F-58097C053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90CF-039C-4AC3-A2C3-40570EA1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17DB-FE35-44AD-B4D8-453AA9E7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636A-DE07-436D-85FE-F1E0256D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9655-8B26-4CC1-B130-B230EA98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955C-D74B-452C-B90A-C59CC4E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32B4-2A6E-4356-85EA-BBAD7116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DBB-2732-4369-8B13-1C2634A0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50DD-B10C-4366-9154-30BF6BDC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A411-A7CF-447A-81B2-450A5451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91B0-2CE0-46B4-A5E1-4EEBBB42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D2AC-7B3E-4150-AD3B-FABA74EA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FD01-F981-45EA-8464-50AEDBAA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F25BB-7503-48DD-A892-56EF35E4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090AA-A69D-46AE-BEAA-657BCD42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C42B6-0E75-41BE-A3EC-B909CF30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226C89-8B61-4495-B560-227A8CA4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D8090-4CA2-40AC-B78E-4AE85542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FFC-941C-4D9B-9AAC-2D75923A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04252-1284-4856-894E-87D232E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953B2-109A-4F8D-B4C0-A6A0AA6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04EDA8-FCB7-4D34-AAF2-9527AB0F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1080F-F5A7-46C9-9AF9-8756DCA6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555BA-5CBF-4C98-9277-F2460254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DD33B-5499-41C7-86B0-3C517A783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8CA1A-68E7-4FD2-84D0-55438996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4ABF-A228-4B80-B697-68A549E3D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3EB50-B859-4BDD-AA55-31352FE5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05F31-876B-42CD-B417-FAA2F7F08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284-ACB7-4A0C-B153-7D8BEC64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10A71-8A41-41D7-AC60-E76CC6F7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0A8C9-0B21-496D-8374-169F893F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87BDC-70B9-4915-996E-00A78B95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181F8-7A2A-4B61-B608-547B661B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E999-BBCC-4EF4-A8ED-2A843B7D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B173-305E-49A6-A11A-ABF879F8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5BFBA-3DAC-43B8-BBC7-70A1577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AA71E-B2CE-46C3-AF57-A9D50A8C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F7BC-5F28-4BF9-A539-7CE21361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3F00F5-8C3D-4E1E-AFDD-FB5A2CF7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DFD-3679-4BF6-A01E-BC7F2379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1330EF-1B8C-43F4-821E-88FD1EAB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BCA1F-6899-47DE-9292-55D2FD5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A0961-BFE3-4A84-A620-50697D2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CB709-6FF8-4C93-8287-74E002D5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E89930-B111-48D6-A0FC-CA0C6D7C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06B96-17BF-447C-963E-E50FE6D5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F0357-7A88-4DA6-8BCF-4D09D6A8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0CBE32-2E32-49F8-8B2F-DB2BEB4F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756CC4-E1BA-4526-AA3D-8364EBAC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CF3F3-092A-46B3-8C89-B563FCA4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0C48-DE85-48B7-A07A-536A5C59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3DF2C9-EAB2-4E15-8EEB-439C75FBC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02332C-7CD1-440C-ACA5-06071464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C13D47-EA25-47BE-95FE-A802ED44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EBBAF-93F2-472B-8718-BD2B83EA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C5948-CA3F-4619-BE62-D1D7F32C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9D2B4-90CD-4291-B79A-723230FC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44BC2D-76C6-42AC-9733-353E799A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4A2899-F997-408E-909B-544F6899A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C29AF3-FD3A-4572-A67C-07A9A62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35855-F1DA-46F9-8BE6-050863B5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CBE-DE43-45C5-B5FA-D285050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9B327B-E375-42D1-8CCD-E7AF99F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54F1E-6DAD-43A6-A851-756C0129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F5D696-4F8E-4453-B77B-F26F92FE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A8FB3-6AAB-4A4F-ACC3-E783B1DF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276AA5-C4ED-453D-A852-B94E3AF1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EAF8B-DF82-4DB3-B9EA-E1A2312D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2CD20E-9106-4FCC-99D3-79E01BE0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972411-267C-4B1D-9150-6C89E507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6F26E4-2C64-4396-950F-8A24B7EA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FD924-D9B6-4016-8345-BEAFEA44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1A5-0CBC-452E-AE46-352D3B29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D74A3-6867-49A3-B5BB-E1DE8CB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5D613D-BB84-4D1C-9105-3445C7B5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3EAA9-33A3-4908-838A-23261AAA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55C19D-F5D6-4EA1-92E1-E58DC388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E2FFA-B84F-4029-920A-0DB481C6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716F-16E2-47EF-A2F2-0858BDD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FD2F-C4BF-4C94-9EBB-1AC42095ABAA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9E0A-2B70-4E41-8407-0626FFF61F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964C-8294-488E-BCC8-2555C3FFBF34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D92C-26E8-48D3-B584-C89EFC8C854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A7F9-2807-420B-A2F5-7E0C1FB030B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664-ADE6-4DC2-B04C-F6869ADA1E8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701D-5968-4D41-94E0-EECD22A16C41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3AAC-A57F-45DD-892E-881DD55728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4A25-66EE-497C-9E3D-3FEB76C1EA9F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7DDB-1C7A-4DB3-A8B2-BAF9BC6EC0A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545D-20E7-4B9F-A6EB-E402E0F7AD5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CA62-5B2F-4748-BB2C-F64874722BA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310A-B6FF-45FA-97D3-A3DEF6AE024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9C78-8970-493F-A297-3BE4689E653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5109-8619-45F4-83C3-1098A66652A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0" y="-128520"/>
            <a:ext cx="896472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36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TICS </a:t>
            </a:r>
            <a:r>
              <a:rPr b="1" lang="ar-SA" sz="18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The cell cycle and cell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Genetic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omatin &amp;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Human Chrom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(Structure &amp; types) &amp; R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gma of Molecular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3.   Introduction to Human Gen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groups of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Genetic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4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CBF-EB3D-43B7-BC75-3896FB2B558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131760" y="1052640"/>
            <a:ext cx="8928000" cy="65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otype &amp; Phenotype (&amp; Genetic Ma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etic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ancer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Diagnosis of Genetic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s of Techniques of Molecular Ge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-time P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iction Endonucl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S-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stern Blo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0" y="115920"/>
            <a:ext cx="905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3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6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Arial"/>
              </a:rPr>
              <a:t>Dr Mohamed Fakh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3DED-7AE9-4485-953B-053301766F0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0" y="1158840"/>
            <a:ext cx="914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7.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Genetic Counseling = </a:t>
            </a:r>
            <a:r>
              <a:rPr b="1" lang="ar-SA" sz="2000" spc="-1" strike="noStrike">
                <a:solidFill>
                  <a:srgbClr val="000000"/>
                </a:solidFill>
                <a:latin typeface="Arial Black"/>
              </a:rPr>
              <a:t>الارشاد و المشو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3"/>
          <p:cNvSpPr/>
          <p:nvPr/>
        </p:nvSpPr>
        <p:spPr>
          <a:xfrm>
            <a:off x="0" y="44280"/>
            <a:ext cx="8893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Black"/>
                <a:cs typeface="Times New Roman"/>
              </a:rPr>
              <a:t>الوراثة و مواضيع طبية متقدمة (ورث</a:t>
            </a:r>
            <a:r>
              <a:rPr b="1" lang="ar-SA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410</a:t>
            </a:r>
            <a:r>
              <a:rPr b="1" lang="ar-SA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"/>
          <p:cNvSpPr/>
          <p:nvPr/>
        </p:nvSpPr>
        <p:spPr>
          <a:xfrm>
            <a:off x="0" y="3068640"/>
            <a:ext cx="90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476360" y="3889440"/>
          <a:ext cx="6095880" cy="182880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Exa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D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c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am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am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Final Exa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3T06:14:37Z</dcterms:created>
  <dc:creator>Sony</dc:creator>
  <dc:description/>
  <dc:language>en-US</dc:language>
  <cp:lastModifiedBy>Mohammed Fakhri</cp:lastModifiedBy>
  <dcterms:modified xsi:type="dcterms:W3CDTF">2015-08-19T10:56:16Z</dcterms:modified>
  <cp:revision>4</cp:revision>
  <dc:subject/>
  <dc:title>Slide 1</dc:title>
</cp:coreProperties>
</file>